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E87-2310-437C-9268-13054826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074-4A69-4208-A3F2-1274836C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9CC-6296-42B5-B6A9-D2C9B62F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FDD-1D7E-4311-9F4D-317DD7C7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A00-F947-4EF1-BFD1-B4297AC4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CA1-BF37-4269-B3D2-2DDB0546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775-525B-4B43-8967-1ABE0895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A8A-2179-4563-AED4-6B106454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9DE-BC55-4382-999E-FA33D957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F23-C490-4C73-843D-11B82FFF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368-0652-4C79-99D4-30D5EC7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600-0C35-4788-ABE0-11E9485F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0273-591B-47DB-85C3-1A7E0892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nsrossel.com/fotos/fotografie/rusland/rus_d3412_std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cff99"/>
                </a:solidFill>
                <a:uFillTx/>
                <a:latin typeface="Arial"/>
              </a:rPr>
              <a:t>Russia’s Awesome 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By: Leanne Gough and Vincent Le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1201400" cy="6861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Vivaldi"/>
              </a:rPr>
              <a:t>Central Siberian Platea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ura MT Script Capitals"/>
              </a:rPr>
              <a:t>Lake Baikal the deepest freshwater lake is on this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ura MT Script Capitals"/>
              </a:rPr>
              <a:t>Many people travel this plateau to see this lake which can be difficult with it’s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Mountain 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Russia is huge! Its land is so big, it runs on two continents! Russia runs on both Asia and Europ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Bodoni MT Black"/>
              </a:rPr>
              <a:t>The Ural mountains divide these. Western Russia contains two mountain ranges. The Ural Mountain Range and the Caucasus Mountain R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itannic Bold"/>
              </a:rPr>
              <a:t>Ural and Caucasus Moun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be0e3"/>
                </a:solidFill>
                <a:uFillTx/>
                <a:latin typeface="Harlow Solid Italic"/>
              </a:rPr>
              <a:t>U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Harlow Solid Italic"/>
              </a:rPr>
              <a:t>Not very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Harlow Solid Italic"/>
              </a:rPr>
              <a:t>Separate Russia and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Harlow Solid Italic"/>
              </a:rPr>
              <a:t>Making travel between them more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Harlow Solid Italic"/>
              </a:rPr>
              <a:t>Cauca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Harlow Solid Italic"/>
              </a:rPr>
              <a:t>Separate Southwest Asia and Southwestern Russia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Harlow Solid Italic"/>
              </a:rPr>
              <a:t>Taller than the Ural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Harlow Solid Italic"/>
              </a:rPr>
              <a:t>Covered in different types of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auhaus 93"/>
              </a:rPr>
              <a:t>Inland Water Bo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In Russia, there are rivers, the largest sea in the world and some ca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oadway"/>
              </a:rPr>
              <a:t>Rivers and Hugeness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many rivers in the West Siberian Plain that run over frozen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aspian Sea is the largest inland body of water in the water in the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ssia shares the Caspian Sea with four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1043964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home of Siberian Tiger, the West Siberian Plains is one of Russia’s major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rth European Plains lie in the northwest part of massive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West Siberian 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world’s largest flat land in the world, the West Siberian Plains making it long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Home to the Siberian Tiger which few live in the wild as of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many rivers in the plain make the land muddy and wet in man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People can only live effectively in the southern part of this pl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North European 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Russia’s most mild climate only is in this small area leaving the rest unfavorable climat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ost of Russia’s small population lives in this south of this 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oscow resides in the North European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tura MT Script Capitals"/>
              </a:rPr>
              <a:t>Why Russia’s Land is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uch of it’s land is mountainous and hard to work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The West Siberian Plains is muddy and mushy with many rivers flowing throug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Russia’s livable land is extremely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8:57:06Z</dcterms:created>
  <dc:creator> </dc:creator>
  <dc:description/>
  <dc:language>en-US</dc:language>
  <cp:lastModifiedBy> </cp:lastModifiedBy>
  <dcterms:modified xsi:type="dcterms:W3CDTF">2010-12-20T19:24:16Z</dcterms:modified>
  <cp:revision>5</cp:revision>
  <dc:subject/>
  <dc:title>It’s Always Tougher n Russia</dc:title>
</cp:coreProperties>
</file>